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85FB-B712-4675-9DFF-5A4D34E6D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3423-D144-4BC8-BEC7-764592CAD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6615-9C45-4A11-B449-8656B58E2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F629-00D9-4CEC-9792-2FE48850C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9D44-2E87-4F4D-A0BA-B236BB3A2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B574-5389-4F78-9528-47F310ECA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3B36-33B9-4339-BC7D-9F0A6FF0E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1D86-61E6-4B3F-ACA8-BD3BAF9BF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349F-58C2-4DC3-96C2-065D8241A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F925-25E3-43DA-8B28-CF6BDA50E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8C91-1517-46B8-AD07-8E8BE247C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F2FD-53AB-4AA7-A3D8-833660F2D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7CBB9-C15E-427D-A5FB-C4EC8C0358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Martin Otter</cp:lastModifiedBy>
  <dcterms:modified xsi:type="dcterms:W3CDTF">2007-11-29T08:35:17Z</dcterms:modified>
  <cp:revision>1</cp:revision>
  <dc:subject/>
  <dc:title>Folie 1</dc:title>
</cp:coreProperties>
</file>